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D921-A5E3-4A36-9917-9504BE34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B9C4-BC50-4648-92CB-CD8BF845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A27F-3126-4255-9AF4-EF7452D1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EB1-0A0C-42DF-A959-E155E45E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C3F-6598-410C-B3CB-1A896A78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9A0-59EF-4A70-A3D2-8175D735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0A8-907D-4A79-895C-FDF62220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E32-7884-4486-8F95-D4ECAB99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27D3-BB01-4062-8046-A91DE92F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C32-59E9-495D-888B-B335CE47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F6E-0B5B-473D-A2EA-1BF4FAC5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1D5-D6AE-4679-BA1C-DBE32CE9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97E9-BD64-4FF0-9550-6CDA7A0E0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strangelo Edessa"/>
              </a:rPr>
              <a:t>Ropa Catálogo de Estacion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strangelo Edessa"/>
              </a:rPr>
              <a:t>By: </a:t>
            </a:r>
            <a:r>
              <a:rPr b="0" lang="en-US" sz="3200" spc="-1" strike="noStrike">
                <a:solidFill>
                  <a:srgbClr val="bbe0e3"/>
                </a:solidFill>
                <a:latin typeface="Estrangelo Edessa"/>
              </a:rPr>
              <a:t>Kaley Brudner</a:t>
            </a:r>
            <a:r>
              <a:rPr b="0" lang="en-US" sz="3200" spc="-1" strike="noStrike">
                <a:solidFill>
                  <a:srgbClr val="000000"/>
                </a:solidFill>
                <a:latin typeface="Estrangelo Edessa"/>
              </a:rPr>
              <a:t> &amp; </a:t>
            </a:r>
            <a:r>
              <a:rPr b="0" lang="en-US" sz="3200" spc="-1" strike="noStrike">
                <a:solidFill>
                  <a:srgbClr val="bbe0e3"/>
                </a:solidFill>
                <a:latin typeface="Estrangelo Edessa"/>
              </a:rPr>
              <a:t>Samantha Gre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ench Script MT"/>
              </a:rPr>
              <a:t>Ropa Para el</a:t>
            </a:r>
            <a:r>
              <a:rPr b="1" lang="en-US" sz="4400" spc="-1" strike="noStrike">
                <a:solidFill>
                  <a:srgbClr val="000000"/>
                </a:solidFill>
                <a:latin typeface="French Script MT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French Script MT"/>
              </a:rPr>
              <a:t>Invie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ettenschweiler"/>
              </a:rPr>
              <a:t>Julissa lleva abrigo largo, blanco y marrón, los pantalones, marrónes, y botas, marrón. Ella es muy cómodo!</a:t>
            </a:r>
            <a:r>
              <a:rPr b="0" lang="en-US" sz="2400" spc="-1" strike="noStrike">
                <a:solidFill>
                  <a:srgbClr val="000000"/>
                </a:solidFill>
                <a:latin typeface="Haettenschweile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ettenschweiler"/>
              </a:rPr>
              <a:t>Lola lleva una camisa, roja y blanca, y pantalones, negro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Haettenschweiler"/>
              </a:rPr>
              <a:t>Ella es con estil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71600" y="2943360"/>
            <a:ext cx="2438280" cy="3914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sweater"/>
          <p:cNvPicPr/>
          <p:nvPr/>
        </p:nvPicPr>
        <p:blipFill>
          <a:blip r:embed="rId3"/>
          <a:stretch/>
        </p:blipFill>
        <p:spPr>
          <a:xfrm>
            <a:off x="6629400" y="2743200"/>
            <a:ext cx="2209680" cy="367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86200" y="4648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Juice ITC"/>
              </a:rPr>
              <a:t>Ropa para </a:t>
            </a:r>
            <a:r>
              <a:rPr b="1" lang="en-US" sz="4400" spc="-1" strike="noStrike">
                <a:solidFill>
                  <a:srgbClr val="ffcc00"/>
                </a:solidFill>
                <a:latin typeface="Juice ITC"/>
              </a:rPr>
              <a:t>la primave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Juice ITC"/>
              </a:rPr>
              <a:t>Sara lleva una blusa, gris y blanca, una cinturón, marrón, y pantalones cortos, azules. Tambien, una pulsera, plata. Ella es muy lind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Juice ITC"/>
              </a:rPr>
              <a:t>Clara lleva una blusa, amarillo y blanca, pantalones, negros, y pulsera, ora. Ella es muy bonit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2438280" cy="3657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867280" y="1371600"/>
            <a:ext cx="2146320" cy="3219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Ropa para el </a:t>
            </a:r>
            <a:r>
              <a:rPr b="0" lang="en-US" sz="4400" spc="-1" strike="noStrike">
                <a:solidFill>
                  <a:srgbClr val="99cc00"/>
                </a:solidFill>
                <a:latin typeface="Haettenschweiler"/>
              </a:rPr>
              <a:t>veran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Cassidy lleva traje de baño, azul, violeta, y negra. se traje de un bikini. Ella es muy perfect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Haettenschweiler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aettenschweiler"/>
              </a:rPr>
              <a:t>Cassidy lleva traje de baño, rojo, azul, y amarillo. Ella es muy de mo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157140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90920" y="1905120"/>
            <a:ext cx="1571400" cy="241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2066760" cy="3181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Ropa Para el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400" spc="-1" strike="noStrike">
                <a:solidFill>
                  <a:srgbClr val="ffcc00"/>
                </a:solidFill>
                <a:latin typeface="Constantia"/>
              </a:rPr>
              <a:t>Oto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eestyle Script"/>
              </a:rPr>
              <a:t>Laura lleva un vestido, blanco y rosado. Tambien, una pulsera, brillante y plata. Ella es muy est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eestyle Script"/>
              </a:rPr>
              <a:t>Grace lleva camisa, amarilla y gris, un cinturón, blanco y amarillo, pantalones, negro, y una pulsera, pl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2247840" cy="3371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946920" y="1143000"/>
            <a:ext cx="2197080" cy="3295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Constantia"/>
              </a:rPr>
              <a:t>Modelo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nstantia"/>
              </a:rPr>
              <a:t>Unas </a:t>
            </a: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Vestido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DRESS"/>
          <p:cNvPicPr/>
          <p:nvPr/>
        </p:nvPicPr>
        <p:blipFill>
          <a:blip r:embed="rId2"/>
          <a:stretch/>
        </p:blipFill>
        <p:spPr>
          <a:xfrm>
            <a:off x="4800600" y="2895480"/>
            <a:ext cx="2197080" cy="3219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DRESS"/>
          <p:cNvPicPr/>
          <p:nvPr/>
        </p:nvPicPr>
        <p:blipFill>
          <a:blip r:embed="rId3"/>
          <a:stretch/>
        </p:blipFill>
        <p:spPr>
          <a:xfrm>
            <a:off x="6997680" y="2895480"/>
            <a:ext cx="2146320" cy="3219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371600" y="2895480"/>
            <a:ext cx="2146320" cy="3219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DRESS"/>
          <p:cNvPicPr/>
          <p:nvPr/>
        </p:nvPicPr>
        <p:blipFill>
          <a:blip r:embed="rId5"/>
          <a:stretch/>
        </p:blipFill>
        <p:spPr>
          <a:xfrm>
            <a:off x="3048120" y="2895480"/>
            <a:ext cx="2211120" cy="321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0" y="2895480"/>
            <a:ext cx="2147760" cy="3222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ff"/>
                </a:solidFill>
                <a:latin typeface="French Script MT"/>
              </a:rPr>
              <a:t>Catálogo realizado por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0099cc"/>
                </a:solidFill>
                <a:latin typeface="Haettenschweiler"/>
              </a:rPr>
              <a:t>Samant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Haettenschweiler"/>
              </a:rPr>
              <a:t>	</a:t>
            </a:r>
            <a:r>
              <a:rPr b="0" lang="en-US" sz="2000" spc="-1" strike="noStrike">
                <a:solidFill>
                  <a:srgbClr val="0099cc"/>
                </a:solidFill>
                <a:latin typeface="Haettenschweiler"/>
              </a:rPr>
              <a:t>	</a:t>
            </a:r>
            <a:r>
              <a:rPr b="0" lang="en-US" sz="2000" spc="-1" strike="noStrike">
                <a:solidFill>
                  <a:srgbClr val="0099cc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0099cc"/>
                </a:solidFill>
                <a:latin typeface="Haettenschweiler"/>
              </a:rPr>
              <a:t>Le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Haettenschweiler"/>
              </a:rPr>
              <a:t>Gre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Ka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Is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Brud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6019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aettenschweiler"/>
              </a:rPr>
              <a:t>G           R           A           C           I           A          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23:12:48Z</dcterms:created>
  <dc:creator>Kaley</dc:creator>
  <dc:description/>
  <dc:language>en-US</dc:language>
  <cp:lastModifiedBy>Kaley</cp:lastModifiedBy>
  <dcterms:modified xsi:type="dcterms:W3CDTF">2012-01-16T23:23:03Z</dcterms:modified>
  <cp:revision>4</cp:revision>
  <dc:subject/>
  <dc:title>Ropa Catálogo de Estaciones </dc:title>
</cp:coreProperties>
</file>